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8AF5-5CCB-45B6-BCD2-7A056D1CE4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5CD-3D01-43EA-893C-29B601D9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F26-438E-427B-A4B0-BCEE058C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384D-430B-43D6-AC37-F7CAF671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A8C-13A5-444F-8EFF-3B5CCCD2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CB6C-3219-4343-AAC9-25FD0074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8A79-84CD-4C18-A7F9-A72F7BCE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7F9C-0910-49FF-8648-E8D81AF4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C27A-D9DB-44C4-8434-45EA5EAB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A8CE-ED31-4630-913B-F95F4D4C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C214-49C1-4B5D-B6C6-D4841B0F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5322-84DF-48FB-ABB7-593C8489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DA3-ED79-4523-9E3B-60D54C70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1C2E-BED7-452D-945E-67615402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62EF-7769-4AC5-BC25-89979412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FDD4-35EE-44F6-9B13-07B03D2E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0419-ECEB-4822-BB9E-ACD7C9AE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F582-E034-4318-ADE6-73A22195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F29-B541-47B5-B4DC-8207BDB5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D5A-3E15-4AC2-B23F-845A7A96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84D-BB80-4603-850E-9705440B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EB1-A072-4372-B767-57BE2424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2C6-F3B1-43AA-B65B-EA2FC390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EBA-6872-40C9-A7DA-73F52EB8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616-20C4-465F-9971-A062A512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A5A0-A003-488C-B5E0-8A1E3AB9F3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A1F3-3BFB-4597-86E6-8060AE9914D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are blood vesse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loodves"/>
          <p:cNvPicPr/>
          <p:nvPr/>
        </p:nvPicPr>
        <p:blipFill>
          <a:blip r:embed="rId1"/>
          <a:stretch/>
        </p:blipFill>
        <p:spPr>
          <a:xfrm>
            <a:off x="5580000" y="1413000"/>
            <a:ext cx="1762200" cy="51847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rteri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 They carry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xygena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22248823"/>
          <p:cNvPicPr/>
          <p:nvPr/>
        </p:nvPicPr>
        <p:blipFill>
          <a:blip r:embed="rId1"/>
          <a:stretch/>
        </p:blipFill>
        <p:spPr>
          <a:xfrm>
            <a:off x="2411280" y="3206880"/>
            <a:ext cx="4608720" cy="34621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e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Veincrosssection"/>
          <p:cNvPicPr/>
          <p:nvPr/>
        </p:nvPicPr>
        <p:blipFill>
          <a:blip r:embed="rId1"/>
          <a:stretch/>
        </p:blipFill>
        <p:spPr>
          <a:xfrm>
            <a:off x="5796000" y="1484280"/>
            <a:ext cx="2000160" cy="4734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apilla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image?id=92806&amp;rendTypeId=34"/>
          <p:cNvPicPr/>
          <p:nvPr/>
        </p:nvPicPr>
        <p:blipFill>
          <a:blip r:embed="rId1"/>
          <a:stretch/>
        </p:blipFill>
        <p:spPr>
          <a:xfrm>
            <a:off x="2771640" y="3789360"/>
            <a:ext cx="3048120" cy="28576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2:47:28Z</dcterms:created>
  <dc:creator>CEC</dc:creator>
  <dc:description/>
  <dc:language>en-US</dc:language>
  <cp:lastModifiedBy>LEGION2</cp:lastModifiedBy>
  <dcterms:modified xsi:type="dcterms:W3CDTF">2016-01-14T14:09:19Z</dcterms:modified>
  <cp:revision>7</cp:revision>
  <dc:subject/>
  <dc:title>What are blood vessels?</dc:title>
</cp:coreProperties>
</file>